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5BD6-EF5D-4A6F-B893-D7DBBC1D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B25B-C3A3-4D25-808A-049AA957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44F7-8DFF-4242-8AC6-2E0F69F1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3EB8-81F7-45E6-B24C-43F7877E0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4ACA-4413-4A71-BAE9-31D9DF0F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0F90-7DF2-4D01-85DA-FB961CF6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734F-67CC-43FC-9B07-FF8004A5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F28B-FE16-4E9B-856E-8BFA42AB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E5DF-6DD1-47F1-B7A7-054EF972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AB6E-5602-4A91-AB3D-5E558938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D77A-8FF1-4EE4-B080-0C2FFA53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EA77-FBC3-47AB-9018-3FB91F65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f4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6457-9571-49B1-B0C5-9F9E49D2FA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835200" y="1298520"/>
            <a:ext cx="7248240" cy="251784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444680" y="2901960"/>
            <a:ext cx="64134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990720" y="1546200"/>
            <a:ext cx="5333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gislators don’t have  time to compil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bbyists present info in an organized, persuasive, factual m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ent politics – nature of issue could give advantage to suppliers of certain information but burden on suppliers of contrar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Rectangle 5" descr=""/>
          <p:cNvPicPr/>
          <p:nvPr/>
        </p:nvPicPr>
        <p:blipFill>
          <a:blip r:embed="rId1"/>
          <a:stretch/>
        </p:blipFill>
        <p:spPr>
          <a:xfrm>
            <a:off x="2309760" y="237960"/>
            <a:ext cx="391968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93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193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193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193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7"/>
          <p:cNvSpPr/>
          <p:nvPr/>
        </p:nvSpPr>
        <p:spPr>
          <a:xfrm>
            <a:off x="762120" y="1752480"/>
            <a:ext cx="5562360" cy="25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litical cue: tells official what values are at stake and if issue fits into their set of political belie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ngs: assess a representative’s voting record on issues important to an interest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Rectangle 5" descr=""/>
          <p:cNvPicPr/>
          <p:nvPr/>
        </p:nvPicPr>
        <p:blipFill>
          <a:blip r:embed="rId1"/>
          <a:stretch/>
        </p:blipFill>
        <p:spPr>
          <a:xfrm>
            <a:off x="2316240" y="237960"/>
            <a:ext cx="3919320" cy="920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"/>
          <p:cNvPicPr/>
          <p:nvPr/>
        </p:nvPicPr>
        <p:blipFill>
          <a:blip r:embed="rId2"/>
          <a:stretch/>
        </p:blipFill>
        <p:spPr>
          <a:xfrm>
            <a:off x="5410080" y="3733920"/>
            <a:ext cx="26290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380880" y="1523880"/>
            <a:ext cx="701064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ider strategy: lobbyists work closely with key members of Con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sider strategy: designed to generate public pressure directly on government officials (grassroots lobby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sue public: public directly affected by government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mbers interest groups work with legislators with whom they a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ly few issues are so important that member of Congress would think that to ignore public opinion would mean losing 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Rectangle 4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35200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92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192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192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192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6"/>
          <p:cNvSpPr/>
          <p:nvPr/>
        </p:nvSpPr>
        <p:spPr>
          <a:xfrm>
            <a:off x="457200" y="1600200"/>
            <a:ext cx="48769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bbyists try direct-mail campaigns to arouse small, passionate group to write letters/v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rty Dozen” – Congressmen votes against bills to help environment; lost them their re-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rge, well-funded interest groups rarely all-power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tangle 4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352000" cy="1444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"/>
          <p:cNvPicPr/>
          <p:nvPr/>
        </p:nvPicPr>
        <p:blipFill>
          <a:blip r:embed="rId2"/>
          <a:stretch/>
        </p:blipFill>
        <p:spPr>
          <a:xfrm>
            <a:off x="5410080" y="2362320"/>
            <a:ext cx="34290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762120" y="1523880"/>
            <a:ext cx="64767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ney one of less effective ways to advance groups’ c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mpaign finance reform law of 1973: restricted amount any interest could give candidate; legal for corporations/labor unions to form political action committees (PACs) to mak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4, top ten PACs were labor unions, business organizations, groups representing doctors, lawyers, realtors, government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93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193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193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193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6"/>
          <p:cNvSpPr/>
          <p:nvPr/>
        </p:nvSpPr>
        <p:spPr>
          <a:xfrm>
            <a:off x="838080" y="1828800"/>
            <a:ext cx="60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se of ideological PACs (+1,000: ⅓ liberal, ⅔ conservat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e more money but give less since the way they raise it is exp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st PACs spend small sums of money over many candi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Title 1" descr=""/>
          <p:cNvPicPr/>
          <p:nvPr/>
        </p:nvPicPr>
        <p:blipFill>
          <a:blip r:embed="rId1"/>
          <a:stretch/>
        </p:blipFill>
        <p:spPr>
          <a:xfrm>
            <a:off x="444600" y="266760"/>
            <a:ext cx="8245440" cy="1160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2"/>
          <a:stretch/>
        </p:blipFill>
        <p:spPr>
          <a:xfrm>
            <a:off x="3124080" y="3886200"/>
            <a:ext cx="285768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685800" y="1600200"/>
            <a:ext cx="73915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undreds leave government for jobs in private indu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chael K. Deaver (deputy chief of staff under Reagan) used former government contacts to help clients of public relation fi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s other way: Ex – lawyers of Federal Trade Commission might feel will be rewarded for being especially vigorous/effective prosecu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93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193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0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1" dur="193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2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3" dur="193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4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1066680" y="1752480"/>
            <a:ext cx="5562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th ends of political spectrum used disru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minists, antislavery, blacks: sit-ins to bomb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u Klux Klan: terror, intimidation, mu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ficials find selves in no-win sit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93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5" dur="193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6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7" dur="193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8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9" dur="193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0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4:02:21Z</dcterms:created>
  <dc:creator>Andrea</dc:creator>
  <dc:description/>
  <dc:language>en-US</dc:language>
  <cp:lastModifiedBy>kluvere</cp:lastModifiedBy>
  <dcterms:modified xsi:type="dcterms:W3CDTF">2012-03-13T01:04:26Z</dcterms:modified>
  <cp:revision>25</cp:revision>
  <dc:subject/>
  <dc:title>Activities of Interest Groups</dc:title>
</cp:coreProperties>
</file>